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130E4-5C44-4035-8250-08C291D00D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D79C8-CA2E-4589-ABD5-18020537CA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05B60-BB75-431F-BC74-5C915AEFAA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E680B-537F-4A2C-966B-2698A2683A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06A56-2794-4E87-B3D0-39FF278D64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9104A-0123-413B-B3ED-9D6FE752B3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7A8F5-9770-4BA0-9EBA-B44FD68897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52000-822F-412B-8A78-D39C0F14DC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7C57C-8D14-4FCD-9DEB-54465CF5A3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C8BF7-2C55-4494-8654-EE9A4A8B34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13526-61DC-49C7-8AF1-B67E2DBE66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0FEB0-1F83-4C44-9615-4CAE37661C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39D63-D08F-469A-9933-C412EAE5BE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07B67-C72A-469A-A071-FAD2DE92D6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1D457-12C2-42CF-9CD2-544158A649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31823-98EA-4B41-9AE2-B664F4DBB4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6EEA-A8C8-4063-98BC-C68576C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BE69-857D-4AB8-BF3E-0B2880F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FFB7-3360-4347-BBD3-857009E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E1DD6-2AF2-47A7-87F3-2599DDF9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C4B0-EA2E-4D21-88E3-844C5E5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4AB8-CA1F-40B4-803F-61DDCB3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0C29-1475-47BC-B2C6-EB1637D4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40A0-FDDD-4373-8FE2-8758088F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37EB-13CD-421D-AF07-207BF581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05524-B81A-40F0-9A47-7E33C84A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55D84-B47D-4619-AA94-2EB7ABA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F0D9-21A0-4B70-B473-16237061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E468-998F-4CF5-9142-A19D1A05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1699-9786-49CE-A4F1-202F501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DB7C-9D4B-48F8-AA1B-7F7C1B66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A3C0E-6559-4AF2-9454-A0D579F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431F-38EA-4C59-89C5-F9E1404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E0C99-9003-446B-B866-C422829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DDEB2-2CF3-4E6C-A4E5-A9FE8C6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4C903-36C3-47F1-8A24-7CD7338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CF296-0A03-4FD3-AEAB-BFAD7C76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16484-93EA-45BE-B384-94C191BD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78EBE-EACD-4E25-AC65-0B44FDE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43BF-5597-41FA-A2BE-D382BF38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99249-42F3-452D-8AB2-F2454F88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50F4A-DDB4-4615-A0D8-6C5643B1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950D6-4695-461C-9B09-CFC5903D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97E3B-5BE0-40B7-B920-72492D5C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B366A-C1D3-4234-9B0F-BAA27EE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0B663-A927-4885-B3A0-DF7981E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59FA4-C2B7-4F9E-B53F-65486B96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A9A05-E216-4933-96DA-FB266840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F4AAB-3581-4AE5-86B3-27BC6D97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A5ACD-18EF-475D-A2C2-168CABBC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56377-1D9B-4355-90EF-2A5B68AC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52743-6AD1-448C-80B2-4BA1FC0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43A57-6F23-4437-B13E-43F3341F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DCDDF-AF6E-4CBA-9FA4-3960F62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33AB1-4B0A-48B1-A64C-38B4CD2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C25B1-F21A-4B3E-B809-D010FFA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05D74-9705-41C9-A353-2F24B02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1428F-DCB5-4CC7-9C95-DE9A1833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D28C7-F98E-41A3-9832-63F405AF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0C149-A058-4542-9B1B-D1C10C3E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4E95B-9FF6-4E96-BE42-24883438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0517D-C620-40B2-8659-ED24B2E6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7F79C-ECEA-4D05-B978-73359C0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E37C1-7C6C-4EF0-B171-AC37F36E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6338B-F99C-4C07-88DB-F1209E0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F632C-A2EA-46A6-95DD-DB26923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787F-7B05-4B72-A227-21A5F99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7A8C4-8554-464A-934D-E0190AB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BEA2C-D888-4E6A-B8E9-A0ED371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35C4F-1EFA-442E-A2E6-F21E752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5913F-1677-4B3C-968C-1722A2E5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08625-66C3-4E83-BCDA-C035C51A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4CFA7-D26A-4694-AA73-36851362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9C222-29E4-40C0-88DA-69E62B52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BE9AA-4427-43A6-BE97-EAF3504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DDC4E-002D-4B60-AE65-29919EB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7B426-5ED6-461E-9432-13CBCE82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9E23F-5683-4929-BE44-EE5222E2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118E4-383F-4C16-BFE7-9A35FE61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562A1-DE89-4BF8-BB09-8A129E59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A1F96-3719-439D-A590-716AC8A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DA8CA-B707-40A1-8DF0-7BC7458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50AAC-4D46-4D22-9CA9-A1BA49E3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C0E99-45FC-4250-B8CC-9755C04C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541B1-EF16-44B9-96F0-ECF2512C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60D4A-3CA4-44E2-9167-D0B0DF8C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18E9D-3D1F-4337-B311-FFCDD46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41D8A-A1DB-4F3F-9864-F259D727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13AFA-CB56-4597-B735-207D5754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09AF8-A79A-43C3-95B1-52F27679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CA824-97A7-4281-8B2E-25254416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2A782-42A3-49A2-BD1D-70E109C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BE769-B05F-47F2-9980-FF2B53F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96026-46E7-4889-9940-395D5F2A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11727-5FA0-425A-B4BC-605B4D4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5D63D-FF8F-4F1E-A1B0-8417A2B5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36E72-61F9-49B4-9FB8-AEB9262C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0DFE8-D6CE-4ED6-8C24-F4BF85AD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5D4D9-4E23-4B40-BBB8-6025E27C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DC503-6E9A-4E06-A600-3DB203B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3EFAE-91C7-40D1-A97E-F84622C2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8D71D-676B-47EF-97E3-3EC4386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BAAE0-D696-4C34-871A-21220E6E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5A0F5-4B6C-4960-B264-5B363E2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7A388-C5E9-4EB5-962F-C6BE774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98FEA-3999-4849-A3E1-A62375A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6FA1D-B847-459B-95A0-7302F7D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BAACF-B649-426E-8378-37A23B9C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18A75-AEE2-421F-9E49-688E678F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B99C3-4CB5-4D37-9A11-D6505E50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AFB89-C26E-482F-BCF4-60D768C2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0FE9B-BFAC-4ED4-B4E0-B6D4159C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80CE4-A4E9-4C74-8717-26EF9EB5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1CB9D-A451-4409-AD46-CB860FB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0CB8C-1D49-440D-839A-49587DA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B9D2A-2F92-4257-8392-78ABBA2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2D84F-84AA-42B1-8A1B-F95E286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E0189-385D-4B27-B8A9-74D0EFD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57AE7-CFAE-4368-BA32-8D438360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68853-494E-4D8D-8761-E0F09318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3C898-FD30-4226-89E8-BEAC2304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2FC26-C660-40F5-8B69-33F2018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76EE3-30B8-45BC-89FA-61C4882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588F0-CB52-47E6-B777-79FD4F7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BB4A4-9B06-4D83-9828-651E70FD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B9D2D-BE5B-4B1A-B101-D49AA72E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9180E-741C-4DB7-B5A4-91672C5A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A15B4-913D-4E68-91EB-C6444678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D61D5-B3B6-4C22-8C02-2F307615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8FD56-419D-4759-86F0-A32114A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0F387-8F5C-498E-9118-F41AACA5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651A2-F8A8-4D10-A7A4-A033CE25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26FF8-9715-4005-AD5D-C33191F7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F0BF2-F500-4057-8B52-4A4003C0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C59C6-5365-46A5-A20C-E9981DF1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78010-F8F3-4A23-94C8-595DD34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0EF32-5015-4ABE-89A7-DF7CA1EB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E340B-7B44-4FB0-BCD3-031C710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77142-F1E0-4DD7-A2A1-19D96A01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00DB6-DD5F-4565-A49B-BCC91C3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2E812-7F37-4F04-9D0E-B8AE33F3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CEE53-BE95-4539-8ED5-8742177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E9029-3E57-4B13-93DC-B31EE92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2BF69-946A-48D6-A684-D4D85BEE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B77CC-3812-4F06-ABA2-BEA2E8C4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42362-2200-4D9E-A0E8-0D1AB8F7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2022F-5B92-4658-B412-FC1BE19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CD9F4-F23D-47E9-B297-549CA10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275CB-8852-4400-8338-A1D0BDB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B85FF-9453-4233-BF46-4AFF989B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4E495-EE14-4110-B47D-BE1BB7C7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B00C1-453D-4370-A24F-0E369C6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85503-2371-42EB-ADB4-2BAD919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144EE-0CEC-4AE7-A0A2-BD1A034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4ACEB-7563-4D18-8557-E541AEA1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E3EA1-33FB-4FCB-AA7D-7A1795A6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DC6CC-2D32-47F0-BF92-D929EA76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9355E-016F-4EDA-A807-4F391A8E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791F9-D589-4AD7-8FA7-E7315CC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00858-76AA-4E0E-BBB8-63FD933B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6E0BC-CD1B-45DB-B210-AA1E280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4752D-6ABB-4346-A988-E2E903B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32443-9B59-4A81-BF0B-0C2F689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42D72-653B-4D2B-84D4-8D83088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67CA67-2FFC-480C-8029-4AAEF70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3973E-FF85-40C9-8C5D-645AD39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B7D-67B7-4235-A303-E3748390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0A25C-8CAE-4BB8-918E-972D136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CBB80-937E-482F-BC52-BDEBFD83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83287-7355-42FD-B4E8-4DC99730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8407BD-B979-438F-831A-54B605D9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CEFD3-5CCE-40C0-9110-DC10FBF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67A7F-315F-4847-90F6-1586ACC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4A29F-052E-46EC-B0B3-567A2E50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95700-1FE8-4FFD-96A6-B3FFC789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6D0AC-BD0D-483F-B10C-2F8CDFD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106E2-5ADE-46F7-82E8-63C2EC1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9E2-E1B5-4D40-B178-69C2205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8CAFE-997F-4D36-8658-E0D2A46D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C49915-45E9-4AD6-933C-8A04442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184BD-F33F-40BB-8D6C-6DD76896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C0611-ECD7-4A8C-A778-70C86EFE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23E5E-0C03-4CBA-9E11-EFA0D368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5DC-C0DE-4E8F-AA33-F7580A7F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F21-C582-4CD7-A247-E814BE3B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E23-8367-4016-BFC0-349E879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702-8675-4D39-8A18-6F1FEA99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F25-9F3B-4B7C-9C8A-9196315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2B1-F254-4F49-9AD8-8DB7E6F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B1D-ABA6-45B7-8FE5-92BAC2F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B62-72C0-44DD-9D39-69CE9F1F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253-C015-48E3-AFF4-E29D9621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B32-E9CD-42CC-8F84-448F45A1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F597-4A20-437D-823C-F76FDEE1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2A7-7513-4C6F-828E-FA4538AF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4A6E-3A95-4FA7-AEA9-CA7C858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95B-B066-4D3A-A922-FED2AA09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B579-90BF-430D-B551-4865463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55FD-0781-4804-A7B4-F5B802D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5123-CD5E-4F88-A917-E9D8150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C13-683C-4BCE-8D5C-E3C2034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B301-69A1-4059-AC0F-26E3F5B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C686-2537-4F31-9321-0E2741D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F2F3-7692-42C3-9FCF-8FF87B20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4944-38F3-4FF4-9F59-981CAEE6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7D45-C0BF-4505-AC39-3E64874F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073E-B975-4239-8316-0E489C5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D928-E7E7-4D24-9AD2-3D850EB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0419-C21A-49B2-81C5-B0702CC8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D343-5412-4D48-841C-B31BCCA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DE50-2B99-45A3-BCD1-DEFD582F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AB89-2697-4162-B789-B496A64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4AB07-6B40-40C7-8EB6-31233FC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FA08-2A6E-49E2-B141-82246EB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2C24-E6A5-4C45-81F9-34E0D21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1C54-F88A-4158-BBA3-7180F6F6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0036-1B8F-4A38-9876-822B0546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3E14F-6381-4AA0-82AB-FC5B66E6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A1D6-FE15-4594-B2B8-53A4308A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066F-4622-4245-921F-C86482E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239F-1134-4A0A-9DE9-3E29CE76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30F1-D92C-4E9C-9C8D-2C86BC31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EBAD1-3238-4AF6-AFDC-CFDB46E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E612-4354-4AE8-8CA5-7B9E703A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0D62-0220-467B-B4BD-74AD4EED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5913-8A7A-4978-A958-A85E0AFE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7EAB-1A61-48B7-B6AB-4BAD2BB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E781-E294-4E54-9F7C-DBF90A08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06BC-363B-4016-B2CD-979E6D49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9C8E-58EA-4078-BBEA-0CF95416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DF004-D1D6-4476-85C9-83AFEEE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D84A-2F8B-4BA9-8365-F696372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BF6B-3C16-488F-857F-AB057BD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CC12-D75F-4DC2-BBD7-F09BEFC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BD26-1712-4579-B599-28275710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595F-6467-4146-9C86-60DCBAA0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551A-3DA4-449B-AB00-E08C348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35077-EDE7-4E95-9B56-840AA82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24F8-ADFF-4F6F-B227-653F4258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B6A4-164B-4A2A-8246-15AD3F1B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B359-64AC-41E2-A9FA-79F208D6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D9C3-73DC-4B5B-B701-A4619D92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62FF-923D-4A2C-B9E8-48148B9E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BAC0-F10C-40CF-8659-3015524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A2D5-2BF8-4D56-8D52-CBC63636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EC9A-7A21-455D-AD69-B21FBF61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BC72-4236-44AA-B8A9-97750AD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B6C1-CEF4-4486-AEE0-4C05B7D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7292-DA79-4118-8B3A-46338B9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71CC-6453-40DC-89ED-A7A356B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DCB9-6341-4777-8119-2C32B9A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E79A-3C00-431A-B330-F2E880E1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716CB-B1A0-4005-B20E-1978AAA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C09DA-8A3E-4603-8D3B-CC55B890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32CB8-52E5-4196-B7A3-523112AA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BF28-577C-49D0-824A-FBC0718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1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2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37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376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584BA-2FA6-44D7-83AD-679216B98DE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41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418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DB4C2-114E-4792-A269-4CE06CB96E2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459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4F49E-B458-4610-BD7F-1DFDCCCCC1B9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50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CFC43-9802-47E5-9F86-065E18A7CE8F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543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44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E6A38-929D-4A25-9AF8-895E6D1614A5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58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86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4CF4D-4F8F-457A-99B6-C23C5C5C21F7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627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628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4A10E-9EFC-42DB-B592-AD58C05F2FA1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669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670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43119-42C8-4E6C-A85D-E4F9C81AB97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7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712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A683A-873E-4E1C-B8B6-815933F174CB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753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754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D2079-3E82-4334-AC1C-F806DAFA308B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40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41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79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796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FD75E-47F6-4B62-9E13-A0A91420ECC9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837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38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70FB8-3A2E-4683-8CE5-E8FF8415E107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Image 1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879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80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D606D-677E-42E4-9066-4473CB36D2D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7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80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CEBE9-270A-4670-8C6D-BBF47E44090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12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BCC9B-DFB3-4976-9621-DACB306CDCF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16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166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BEE89-BA33-4130-B35D-90AA0FA20B3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C8D8B-8DA4-4CA6-A22C-16C7C0B6C48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24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E9DD0-FDD9-4074-B578-565CEF2F8D6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291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292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E69FD-765E-49B3-957F-41A473C6CF9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age 6" descr=""/>
          <p:cNvPicPr/>
          <p:nvPr/>
        </p:nvPicPr>
        <p:blipFill>
          <a:blip r:embed="rId2"/>
          <a:stretch/>
        </p:blipFill>
        <p:spPr>
          <a:xfrm>
            <a:off x="291960" y="127080"/>
            <a:ext cx="8560080" cy="6591240"/>
          </a:xfrm>
          <a:prstGeom prst="rect">
            <a:avLst/>
          </a:prstGeom>
          <a:ln w="0">
            <a:noFill/>
          </a:ln>
        </p:spPr>
      </p:pic>
      <p:pic>
        <p:nvPicPr>
          <p:cNvPr id="33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334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019920" y="189000"/>
            <a:ext cx="1690560" cy="4874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75D6B-4DBC-44AB-B064-A476972D278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itre 1"/>
          <p:cNvSpPr/>
          <p:nvPr/>
        </p:nvSpPr>
        <p:spPr>
          <a:xfrm>
            <a:off x="736560" y="2733840"/>
            <a:ext cx="4740480" cy="146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itre 1"/>
          <p:cNvSpPr/>
          <p:nvPr/>
        </p:nvSpPr>
        <p:spPr>
          <a:xfrm>
            <a:off x="736560" y="4622760"/>
            <a:ext cx="4740480" cy="954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66400" y="2130120"/>
            <a:ext cx="854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CIW  PRZEMOCY - MOBILNA AKADEMIA ŚWIADOMEGO SENIORA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jekt realizowany w ramach programu Obywatele dla Demokracji, prowadzonego przez  Fundację  im. Stefana Batorego we współpracy z Polską Fundacją Dzieci i Młodzieży, finansowanego ze środków Mechanizmu Finansowego Europejskiego Obszaru Gospodarczego (tzw. Funduszy EOG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898989"/>
                </a:solidFill>
                <a:latin typeface="Calibri"/>
              </a:rPr>
              <a:t>Wartość projekt: 354 000,00 z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898989"/>
                </a:solidFill>
                <a:latin typeface="Calibri"/>
              </a:rPr>
              <a:t>Dofinansowanie ze środków EOG: 318 000,00 z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898989"/>
                </a:solidFill>
                <a:latin typeface="Calibri"/>
              </a:rPr>
              <a:t>Termin realizacji: wrzesień 2014 r. – kwiecień 2016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898989"/>
                </a:solidFill>
                <a:latin typeface="Calibri"/>
              </a:rPr>
              <a:t>Projekt realizowany przez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898989"/>
                </a:solidFill>
                <a:latin typeface="Calibri"/>
              </a:rPr>
              <a:t>Stowarzyszenie Pomocy ,,Krąg” Nowe Miasto n/Wart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898989"/>
                </a:solidFill>
                <a:latin typeface="Calibri"/>
              </a:rPr>
              <a:t>w partnerstwie ze Stowarzyszeniem Pomocy ,,SO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</a:t>
            </a: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br>
              <a:rPr sz="900"/>
            </a:b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0" name="Symbol zastępczy zawartości 3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825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61760" y="172800"/>
            <a:ext cx="7924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Rodzaje przemocy wobec osób stars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niedba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może polegać na niedostarczeniu jedzenie, picia             i leków, złej jakości higieny, zaniedbywaniu podstawowych potrzeb osób starszych, nie zapewnieniu ubrań, komfortu życia, ciepła, opieki, zaniechaniu wizyt lekarski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em takich zachowań jest pogorszenie się higieny osobistej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yglądu zewnętrznego, powstawania ran, wysypki, nagły spadek masy ciała, głód, pragnienie, poczucie odrzucenia, depres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61760" y="163440"/>
            <a:ext cx="79246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Rodzaje przemocy wobec osób stars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 –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e polegać na okradaniu, wyłudzaniu pieniędzy (kredyty), zawłaszczaniu renty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przepijaniu jej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innych dóbr materialnych, przerzucaniu kosztów życia na osoby starsze, fałszowanie dokumentów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testamenty, darowizn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just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em takich działań jest brak pieniędzy u osób starszych,  liczne kredyty, wysokie długi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często ściągane przez komornika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nagłe zmiany treści testamen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61760" y="16344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Rodzaje przemocy wobec osób stars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sychiczn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może polegać na krzyczeniu, ubliżaniu (przeklinanie, wyzywanie, obelgi), stosowaniu gróźb, upokarzaniu, zastraszaniu, wyśmiewaniu z powodu wieku/ograniczeń fizycznych, ciągłym krytykowaniu, izolowaniu kontaktów z innymi ludźmi, ubezwłasnowolnieni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serwowalne skutki to depresja, wycofanie się z życia towarzyskiego, złość, zmiany w zachowaniu, strach, przerażenie, agresja, obniżenie poczucia własnej wart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2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1760" y="173160"/>
            <a:ext cx="792468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Rodzaje przemocy wobec osób stars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zyczn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może polegać na biciu (rękami, kopaniu), uderzaniu, duszeniu, a także popychaniu, szarpaniu, potrząsaniu, stosowaniu siły w trakcie karmienia, złym dawkowaniu bądź nieuprawnionym stosowaniu le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utkiem mogą być różnorodne rany, siniaki, bolące miejsca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 w sferze psychicznej zmiany w zachowaniu, izolacja od świ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20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61760" y="205920"/>
            <a:ext cx="792468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11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Rodzaje przemocy wobec osób stars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graniczanie wolności (izolowanie) –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e polegać na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mykaniu     w domu, ograniczaniu dostępu do ludzi, łazienki lub innych wspólnych pomieszczeń, zamykaniu w jednym pomieszczeniu, ograniczaniu kontaktu z innymi członkami rodziny (znajomymi), zakazie wychodzenia z do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fektem jest izolacja ofiary od świata zewnętrznego, brak kontaktu      z innymi osob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61760" y="2869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11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Skala zjawiska przemocy wobec osób starszych lub niepełnospraw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1280" y="1781280"/>
            <a:ext cx="80312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nad 90 proc. respondentów nie znajduje okoliczności usprawiedliwiających przemoc wobec osób starsz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niepełnosprawnych, ale aż 45 % badanych uważa, że w takich sytuacjach "lepiej się nie wtrącać„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Calibri"/>
              </a:rPr>
              <a:t>Badanie Instytutu Psychologii PAN na zlecenie Ministerstwa Pracy i Polityki Społecznej (2009 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61760" y="509400"/>
            <a:ext cx="792468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Skala zjawiska przemocy wobec osób starszych lub niepełnospraw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88100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fiarą przemocy w rodzinie wobec osób starszych jest najczęściej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kobiet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z wykształceniem podstawowym lub średn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ypowa ofiara przemocy w grupie osób niepełnosprawnych to takż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kobiet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tyle że z wykształceniem podstawow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Calibri"/>
              </a:rPr>
              <a:t>Badanie Instytutu Psychologii PAN na zlecenie Ministerstwa Pracy i Polityki Społecznej (2009 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" dur="2000"/>
                                        <p:tgtEl>
                                          <p:spTgt spid="9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1760" y="258840"/>
            <a:ext cx="792468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11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Najczęstsze formy przemocy wobec osób stars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śród form przemocy wobec osób starszych najczęściej wskazywan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przemocy fizycznej – izolowanie - 46,7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przemocy ekonomicznej – zabieranie i wykorzystywanie ich pieniędzy - 51,5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przemocy psychicznej – wytykanie niepełnosprawności fizycznej lub psychicznej - 48,5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Calibri"/>
              </a:rPr>
              <a:t>Badanie Instytutu Psychologii PAN na zlecenie Ministerstwa Pracy i Polityki Społecznej (2009 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2000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9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28760" y="27000"/>
            <a:ext cx="83628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Najczęstsze formy przemocy wobec osób niepełnospraw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94840" y="2276640"/>
            <a:ext cx="85820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śród form przemocy wobec osób niepełnosprawnych najczęściej wskazywano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przemocy fizycznej – izolowanie i zamykanie (34,4 %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równie często uderzanie i bicie (34,3 %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przemocy ekonomicznej – zabieranie dóbr materialnych (39,9 %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 przemocy psychicznej – wytykanie niepełnosprawności fizycznej lub psychicznej (34,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Calibri"/>
              </a:rPr>
              <a:t>Badanie Instytutu Psychologii PAN na zlecenie Ministerstwa Pracy i Polityki Społecznej (2009 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20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2000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2000"/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1760" y="236160"/>
            <a:ext cx="79246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71280"/>
            <a:ext cx="77724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Calibri"/>
              </a:rPr>
              <a:t>Co to jest przemoc wobec osób starszy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moc wobec osób starszych może być zdefiniowana jako pojedyncze lub powtarzające się działanie, lub brak odpowiedniego działania, występujące w jakiejkolwiek relacji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której oczekuje się zaufania, a która powoduje krzywdę bądź cierpienie osoby starsze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e ona przybierać różne formy: przemocy fizycznej, psychicznej, seksualnej, finansowej, a także formę intencjonalnego lub nieintencjonalnego zaniedb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definicja podana za The Toronto Declaration on the Prevention of Elder Abus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61760" y="132840"/>
            <a:ext cx="792468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4800"/>
            </a:br>
            <a:br>
              <a:rPr sz="2400"/>
            </a:br>
            <a:r>
              <a:rPr b="1" lang="pl-PL" sz="2400" spc="-1" strike="noStrike">
                <a:solidFill>
                  <a:srgbClr val="00218c"/>
                </a:solidFill>
                <a:latin typeface="Calibri"/>
              </a:rPr>
              <a:t>Czynniki wpływające na występowanie przemocy wśród osób starszych/niepełnospraw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sił fiz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czucie bezrad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czucie uzależni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czucie bycia odrzucony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trzeba miłości i bycia potrzebny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oroba, niesprawność, niedołęstwo, wi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2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" dur="200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200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2000"/>
                                        <p:tgtEl>
                                          <p:spTgt spid="9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2000"/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9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2000"/>
                                        <p:tgtEl>
                                          <p:spTgt spid="9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4800"/>
            </a:br>
            <a:r>
              <a:rPr b="1" lang="pl-PL" sz="2400" spc="-1" strike="noStrike">
                <a:solidFill>
                  <a:srgbClr val="00218c"/>
                </a:solidFill>
                <a:latin typeface="Calibri"/>
              </a:rPr>
              <a:t>Bariery komunikacyjne w kontakcie z osobą  starszą, niepełnosprawną – ofiarą przemocy dom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awa przed zabraniem do domu starc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rach, że nie poradzi sobie samem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czucie bycia złym rodzice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awa, co będzie ze sprawc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łumaczenie sobie, że taka sytuacja jest normaln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czucie wstydu, gdyż niezręcznie o tym mówić, zwłaszcza gdy doświadczają przemocy ze strony członka rodzi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ymbol zastępczy numeru slajdu 5"/>
          <p:cNvSpPr/>
          <p:nvPr/>
        </p:nvSpPr>
        <p:spPr>
          <a:xfrm>
            <a:off x="84240" y="6242040"/>
            <a:ext cx="815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20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20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2000"/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33360" y="352080"/>
            <a:ext cx="84866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4800"/>
            </a:br>
            <a:r>
              <a:rPr b="1" lang="pl-PL" sz="2400" spc="-1" strike="noStrike">
                <a:solidFill>
                  <a:srgbClr val="00218c"/>
                </a:solidFill>
                <a:latin typeface="Calibri"/>
              </a:rPr>
              <a:t>Bariery komunikacyjne w kontakcie z osobą  starszą, niepełnosprawną – ofiarą przemocy dom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257148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chcą wierzyć, nie dopuszczają do świadomości, że to się im przytrafił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dzieja, że stosowanie wobec nich nadużycia są incydental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krótce się skończą, że wszystko znowu będzie jak dawni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awa, że jeśli komuś powiedzą, sprawa się tylko pogorsz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ją problemy z pamięcią i wysławianiem si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arczanie się winą za to, co się stał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84240" y="6242040"/>
            <a:ext cx="815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" dur="2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2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2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4560" y="290160"/>
            <a:ext cx="85150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4800"/>
            </a:br>
            <a:r>
              <a:rPr b="1" lang="pl-PL" sz="2400" spc="-1" strike="noStrike">
                <a:solidFill>
                  <a:srgbClr val="00218c"/>
                </a:solidFill>
                <a:latin typeface="Calibri"/>
              </a:rPr>
              <a:t>Bariery komunikacyjne w kontakcie z osobą  starszą, niepełnosprawną – ofiarą przemocy dom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zemoc instytucjonal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oby starsze skarżą się na bagatelizowanie w urzędach ich problemów, ograniczaniu należnej im uwagi i czasu, zwracaniu się do nich po imieniu, albo pozornie dobrotliwie 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ch babcia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okazywaniu zniecierpliwienia wobec ich niepełnosprawności (np. niedosłyszenia, powolności), nie dawanie wiary ich skarg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84240" y="6242040"/>
            <a:ext cx="815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1392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1100"/>
            </a:br>
            <a:br>
              <a:rPr sz="24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planowane działan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gotowanie i przeprowadzenie kampanii edukacyjno - informacyjnej na temat zjawiska przemocy w rodzinie wobec osób starszych i niepełnospraw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gotowani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akatów, ulotek informacyjn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z seniorów z Klubu Seniora, osoby niepełnosprawne z Klubu Integracji Społecznej oraz 5 wolontariusz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prowadzenie w 5 gminach powiatu średzkiego spotkań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formacyjno - edukacyjn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na temat przemocy wobec osób starszych i niepełnosprawnych,         w czasie spotkań wyłonienie grupy 20 ,,aktorów"- osób niepełnosprawnych               i seniorów do Grupy Teatralnej ,,AS„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ealizacja: październik 2014 - luty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rostokąt 4"/>
          <p:cNvSpPr/>
          <p:nvPr/>
        </p:nvSpPr>
        <p:spPr>
          <a:xfrm>
            <a:off x="276120" y="1692360"/>
            <a:ext cx="856296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.  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ziałalność Grupy Teatralnej ,,AS" to 20 osób (seniorzy i osoby niepełnosprawne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0 młodych wolontariuszy - grupa w ramach 20 spotkań przygotuje 2 spektakl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filaktyczne, które wystawione będą w gmina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organizowanie 10 spotkań teatralnych połączonych z debatami po 2 spotkania            w każdej gmi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czasie spotkań Grupa Teatralna „AS” zaprezentuje przygotowany spektakl terapeutyczny, spotkania odbędą się w Gminnych Ośrodkach Kultury - po 2 w każdej gminie powiat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ektakle połączone będą z debatami na temat zjawiska przemocy w rodzinie wo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ób starszych i niepełnosprawnych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fektem debat będzie wspólne wypracowanie katalogu usług i metod pracy dla osó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rszych i niepełnosprawnych doświadczających przemocy w rodz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acowanie i wydanie informatora pn.,,Jestem osoba niepełnosprawną, jestem Seniorem, doświadczam przemocy w rodzinie - Mam prawo do...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alizacja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ierpień 2015 - marzec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9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1762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worzenie i działalność Mobilnej kawiarenki ,,AS", która działać będzie 1x w miesiącu przez okres 10 miesięcy w 15 świetlicach wiejskich oraz w Klubie KIS         w Środzie Wlkp. pod hasłem ,,Czwartkowe popołudnie - Przy kawie łatwiej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kawiarence prowadzone będzie poradnictwo i wsparcie prowadzone przez specjalistów z zakresu psychologii, prawa, pracy socjalnej, pedagogiki oraz animatora /instruktor kultury, informatyki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wiarenka prowadzić będzie również ,,Lekcję cyfryzacji „AS"- nauka korzystania     z Internetu - zdobywanie informacji i pomocy poprzez Internet, w działania kawiarenki włączeni zostaną seniorzy, osoby niepełnosprawne i rady sołeckie, którzy tworzyć będą program działania kawiaren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 realizacji zadania zostanie zakupiony sprzęt komputerowy - laptop z oprogramowaniem, modem z Internetem bezprzewodowym(Wi-fi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oraz  drukark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95200" y="27432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br>
              <a:rPr sz="9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samochodu BUS - 9-osobowego, celem umożliwienia seniorom i osob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pełnosprawnym korzystania z planowanych działań, w tym przewóz członków Grupy Teatralnej ,,AS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Działania promocyjn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organizowanie i przeprowadzenie 2 konferencji promujących proje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Rozwój instytucj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nalny (jeśli dotycz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rsztaty dla 20 członków organizacji oraz 10 wolontariuszy na temat: ,,Rozwój Mojej Organizacji - Działam" w wymiarze 20 godzin przeprowadzone w czasie          3 - dniowego wyjazd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ealizacja: październik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worzenie strony internetowej organizacj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ealizacja: październik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13920" y="27432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ojekt zakłada osiągnięcie rezultatów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Jedna kampania edukacyjno - informacyjna na temat zjawiska przemocy w rodzinie wobec ww. grup skierowana do społeczności lokalnej - zakłada się, że informacje dotrą do co najmniej 1000 osób,                w tym co najmniej 400 osób starszych oraz niepełnosprawny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lakaty -100 szt., ulotki -1000 sz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wstanie 1 Grupa Teatralna (20 uczestników + 10 wolontariuszy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wstanie Mobilna kawiarenka działająca w 16 punktach -15 świetlic wiejskich i KIS (miasto Środa Wlkp.) świadcząca poradnictwo dla uczestników projekt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ięć spotkań informacyjno - edukacyjnych - ogółem ok. 500 osó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0 spektakli połączonych z 10 debatami - ogółem weźmie udział co najmniej 500 osó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Jestem osobą niepełnosprawną, jestem Seniorem - doświadczam przemocy w rodzinie - Mam prawo do...„ - katalog usług i metod pracy -1000 egz., publikacja na stronach internetowych Wnioskodawcy, Partnera, OPS i PCP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kupiony zostanie samochód B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kupiony zostanie laptop z oprogramowaniem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i drukark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tworzona zostanie strona internetowa organizacj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ZoneTexte 8"/>
          <p:cNvSpPr/>
          <p:nvPr/>
        </p:nvSpPr>
        <p:spPr>
          <a:xfrm>
            <a:off x="914400" y="1577880"/>
            <a:ext cx="712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praszamy do współ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Dziękuję za uwag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l-PL" sz="2000" spc="-1" strike="noStrike">
                <a:solidFill>
                  <a:srgbClr val="404040"/>
                </a:solidFill>
                <a:latin typeface="Verdana"/>
              </a:rPr>
              <a:t>Bernadeta Stasz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ZoneTexte 8"/>
          <p:cNvSpPr/>
          <p:nvPr/>
        </p:nvSpPr>
        <p:spPr>
          <a:xfrm>
            <a:off x="914400" y="324000"/>
            <a:ext cx="51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Symbol zastępczy zawartości 4" descr=""/>
          <p:cNvPicPr/>
          <p:nvPr/>
        </p:nvPicPr>
        <p:blipFill>
          <a:blip r:embed="rId1"/>
          <a:stretch/>
        </p:blipFill>
        <p:spPr>
          <a:xfrm>
            <a:off x="304920" y="1542960"/>
            <a:ext cx="86374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DEMIA ŚWIADOMEGO SENIOR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7" name="Symbol zastępczy zawartości 5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10179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Symbol zastępczy zawartości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218c"/>
                </a:solidFill>
                <a:latin typeface="Calibri"/>
              </a:rPr>
              <a:t>Czynniki ryzyka związane z osobą opieku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ak doświadczenia w opie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realistyczne oczekiwania wobec osoby starsze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egatywne uczucia związane z podopieczny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dmierne obciążenie opiekun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iekun był w dzieciństwie ofiarą przemocy lub zaniedba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2" name="Obraz 22" descr=""/>
          <p:cNvPicPr/>
          <p:nvPr/>
        </p:nvPicPr>
        <p:blipFill>
          <a:blip r:embed="rId1"/>
          <a:stretch/>
        </p:blipFill>
        <p:spPr>
          <a:xfrm>
            <a:off x="971640" y="3840120"/>
            <a:ext cx="377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 - MOBILNA AKADEMIA ŚWIADOMEGO SENIOR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4" name="Symbol zastępczy zawartości 3" descr=""/>
          <p:cNvPicPr/>
          <p:nvPr/>
        </p:nvPicPr>
        <p:blipFill>
          <a:blip r:embed="rId1"/>
          <a:stretch/>
        </p:blipFill>
        <p:spPr>
          <a:xfrm>
            <a:off x="274680" y="1816200"/>
            <a:ext cx="8564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6" name="Picture 2" descr=""/>
          <p:cNvPicPr/>
          <p:nvPr/>
        </p:nvPicPr>
        <p:blipFill>
          <a:blip r:embed="rId1"/>
          <a:stretch/>
        </p:blipFill>
        <p:spPr>
          <a:xfrm>
            <a:off x="461880" y="1552680"/>
            <a:ext cx="822492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ZECIW  PRZEMOCY-MOBILNA AKADEMIA ŚWIADOMEGO SENIORA                                                                         </a:t>
            </a:r>
            <a:br>
              <a:rPr sz="900"/>
            </a:b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ywatele dla Demokracji  www.ngofund.org.p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 badań TNS OBOP 2007 r. na zlecenie MPiPS wynika, ż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nad 16% Polaków dostrzega przemoc wobec osób starszych poza własną rodziną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Najczęściej wskazują na formy przemocy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izolowanie  - 46,7%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konomiczna (zabieranie pieniędzy) – 51,5%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sychiczna - 48,5%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e własnych rodzinach badani wskazują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soby starsze są izolowane przez najbliższych - 11,8%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abieranie pieniądze, wytyka się im niepełnosprawność - 13,2%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obec osób niepełnosprawnych we własnych rodzinach najczęściej stosują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zemoc fizyczną (bicie, uderzanie – 10,6%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zemoc psychiczną – ośmieszani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zywanie, zmuszanie do prac fizycznych (po 8,6%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konomiczną – zabieranie pieniędzy(9,3%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ż 45% wykazuje obojętność wobec przemocy i jest zdania, że w takich sytuacjach nie należy się wtrącać,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ż 70% stwierdziło, że nie reagował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46:35Z</dcterms:created>
  <dc:creator>Utilisateur de Microsoft Office</dc:creator>
  <dc:description/>
  <dc:language>en-US</dc:language>
  <cp:lastModifiedBy>Tatiana Zielińska</cp:lastModifiedBy>
  <cp:lastPrinted>2011-12-02T12:25:53Z</cp:lastPrinted>
  <dcterms:modified xsi:type="dcterms:W3CDTF">2014-11-25T08:30:51Z</dcterms:modified>
  <cp:revision>65</cp:revision>
  <dc:subject/>
  <dc:title>Reducing disparities _x0003_Strengthening re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545699BA070F4F99108B05BA0BA6D6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